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DC1-58F9-4BF7-A928-8B1CCFC5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C1D-235F-4316-939C-2E76B466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1E5-5AFB-4B18-BF0E-9C3677B2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BA6-2E8D-4515-B026-4D983641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68C-6FCB-4ADF-A7C5-F0192099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6D5-DF91-4A9B-A08D-C6C35E10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8D3-967B-458E-80F0-58944958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D57-8D63-4D86-9ED6-DF27D0BA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741-23FB-4CA6-AA16-63F349C5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065-6749-4D92-9E93-D2306436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BE4-7897-4236-8354-72F111D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E3F-E7C0-4652-A20F-10611A61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F607-9074-48AC-B83F-8C5E65057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ferris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38088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Ferris Whe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4724280"/>
            <a:ext cx="2438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aith Skrzel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-17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mputer #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791320"/>
            <a:ext cx="563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562720"/>
            <a:ext cx="4876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d Bad Bo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eb. 27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6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00cc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erris"/>
          <p:cNvPicPr/>
          <p:nvPr/>
        </p:nvPicPr>
        <p:blipFill>
          <a:blip r:embed="rId1"/>
          <a:srcRect l="0" t="0" r="22583" b="0"/>
          <a:stretch/>
        </p:blipFill>
        <p:spPr>
          <a:xfrm>
            <a:off x="609480" y="380880"/>
            <a:ext cx="4572000" cy="181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Ferris"/>
          <p:cNvPicPr/>
          <p:nvPr/>
        </p:nvPicPr>
        <p:blipFill>
          <a:blip r:embed="rId2"/>
          <a:srcRect l="77270" t="0" r="0" b="0"/>
          <a:stretch/>
        </p:blipFill>
        <p:spPr>
          <a:xfrm>
            <a:off x="5791320" y="228600"/>
            <a:ext cx="303372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5943600"/>
            <a:ext cx="8534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orge Ferri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2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ferri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nvention: The Ferris Wh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original Ferris Wheel was built in 1893 for the World’s 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000 people could ride it at on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original Ferris Wheel was 250 feet tall, the height of a 25 stor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cost 50 cents to ride it back in 18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day it is still one of the most popular carnival 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0120" y="4038480"/>
            <a:ext cx="1244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nventor: George Fer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orge Ferris was born on February 14, 18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 was originally from Galesburg, 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orge earned a degree in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fore building the Ferris Wheel, he worked on railroad tunnels and bri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 died on November 21, 18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31:50Z</dcterms:created>
  <dc:creator>install</dc:creator>
  <dc:description/>
  <dc:language>en-US</dc:language>
  <cp:lastModifiedBy>install</cp:lastModifiedBy>
  <dcterms:modified xsi:type="dcterms:W3CDTF">2012-03-09T15:26:57Z</dcterms:modified>
  <cp:revision>11</cp:revision>
  <dc:subject/>
  <dc:title>Slide 1</dc:title>
</cp:coreProperties>
</file>